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ourier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" name=""/>
          <p:cNvSpPr/>
          <p:nvPr/>
        </p:nvSpPr>
        <p:spPr>
          <a:xfrm>
            <a:off x="7957440" y="631044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FE3F-5D63-471A-A97B-B38BDB45CFC9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0" y="63244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232680" y="6172200"/>
            <a:ext cx="146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B2A1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37240" y="6324480"/>
            <a:ext cx="199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view Personnel Evaluation System</a:t>
            </a:r>
            <a:endParaRPr b="1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Review Personnel Evaluation System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04920" y="1752480"/>
            <a:ext cx="3787560" cy="4892400"/>
            <a:chOff x="304920" y="1752480"/>
            <a:chExt cx="3787560" cy="4892400"/>
          </a:xfrm>
        </p:grpSpPr>
        <p:sp>
          <p:nvSpPr>
            <p:cNvPr id="49" name=""/>
            <p:cNvSpPr/>
            <p:nvPr/>
          </p:nvSpPr>
          <p:spPr>
            <a:xfrm>
              <a:off x="380880" y="1851840"/>
              <a:ext cx="3581640" cy="469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0" name=""/>
            <p:cNvGraphicFramePr/>
            <p:nvPr/>
          </p:nvGraphicFramePr>
          <p:xfrm>
            <a:off x="304920" y="1752480"/>
            <a:ext cx="3787560" cy="48924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04920" y="1752480"/>
                      <a:ext cx="3787560" cy="4892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2" name=""/>
          <p:cNvGrpSpPr/>
          <p:nvPr/>
        </p:nvGrpSpPr>
        <p:grpSpPr>
          <a:xfrm>
            <a:off x="2619360" y="1752480"/>
            <a:ext cx="3719520" cy="5054400"/>
            <a:chOff x="2619360" y="1752480"/>
            <a:chExt cx="3719520" cy="5054400"/>
          </a:xfrm>
        </p:grpSpPr>
        <p:sp>
          <p:nvSpPr>
            <p:cNvPr id="53" name=""/>
            <p:cNvSpPr/>
            <p:nvPr/>
          </p:nvSpPr>
          <p:spPr>
            <a:xfrm>
              <a:off x="2666880" y="1752480"/>
              <a:ext cx="3581640" cy="494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4" name=""/>
            <p:cNvGraphicFramePr/>
            <p:nvPr/>
          </p:nvGraphicFramePr>
          <p:xfrm>
            <a:off x="2619360" y="1752480"/>
            <a:ext cx="3719520" cy="50544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19360" y="1752480"/>
                      <a:ext cx="3719520" cy="50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6" name=""/>
          <p:cNvGrpSpPr/>
          <p:nvPr/>
        </p:nvGrpSpPr>
        <p:grpSpPr>
          <a:xfrm>
            <a:off x="5181480" y="1676520"/>
            <a:ext cx="3840120" cy="5054040"/>
            <a:chOff x="5181480" y="1676520"/>
            <a:chExt cx="3840120" cy="5054040"/>
          </a:xfrm>
        </p:grpSpPr>
        <p:sp>
          <p:nvSpPr>
            <p:cNvPr id="57" name=""/>
            <p:cNvSpPr/>
            <p:nvPr/>
          </p:nvSpPr>
          <p:spPr>
            <a:xfrm>
              <a:off x="5259240" y="1756440"/>
              <a:ext cx="3581280" cy="478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58" name=""/>
            <p:cNvGraphicFramePr/>
            <p:nvPr/>
          </p:nvGraphicFramePr>
          <p:xfrm>
            <a:off x="5181480" y="1676520"/>
            <a:ext cx="3840120" cy="5054040"/>
          </p:xfrm>
          <a:graphic>
            <a:graphicData uri="http://schemas.openxmlformats.org/presentationml/2006/ole">
              <p:oleObj progId="Word.Document.12" r:id="rId5" spid="">
                <p:embed/>
                <p:pic>
                  <p:nvPicPr>
                    <p:cNvPr id="5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181480" y="1676520"/>
                      <a:ext cx="3840120" cy="50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" name=""/>
          <p:cNvSpPr/>
          <p:nvPr/>
        </p:nvSpPr>
        <p:spPr>
          <a:xfrm>
            <a:off x="6705720" y="640080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1440" indent="0">
              <a:spcBef>
                <a:spcPts val="700"/>
              </a:spcBef>
              <a:buNone/>
              <a:tabLst>
                <a:tab algn="l" pos="0"/>
                <a:tab algn="l" pos="142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Review Personne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Evaluation System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iven a requirement to review personnel evaluation system and access to AR 623-105, AR 623-205, AR 672-20 and AR 690-400. 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1464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1.  Ensured Personnel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Service Battal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(PSB)/administrativ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office responsibiliti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are accomplished 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rocessing OER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1464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2114640"/>
                <a:tab algn="l" pos="2571840"/>
                <a:tab algn="l" pos="3086280"/>
                <a:tab algn="l" pos="3600360"/>
                <a:tab algn="l" pos="4114800"/>
                <a:tab algn="l" pos="4629240"/>
                <a:tab algn="l" pos="5143680"/>
                <a:tab algn="l" pos="5657760"/>
                <a:tab algn="l" pos="6172200"/>
                <a:tab algn="l" pos="6686640"/>
                <a:tab algn="l" pos="7201080"/>
                <a:tab algn="l" pos="7715160"/>
                <a:tab algn="l" pos="8229600"/>
                <a:tab algn="l" pos="8744040"/>
                <a:tab algn="l" pos="9258480"/>
                <a:tab algn="l" pos="9772560"/>
                <a:tab algn="l" pos="10287000"/>
                <a:tab algn="l" pos="1080144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1146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2.  Ensured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SB/administrativ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office responsibilitie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are accomplished 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processing NCOER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3.  Ensured rate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responsibilities ar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accomplished whe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preparing Base System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Civilian Evalua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Reports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marL="3240" indent="0">
              <a:spcBef>
                <a:spcPts val="700"/>
              </a:spcBef>
              <a:buNone/>
              <a:tabLst>
                <a:tab algn="l" pos="0"/>
                <a:tab algn="l" pos="51444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.  Verified evaluatio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reports are maintained.</a:t>
            </a:r>
            <a:endParaRPr b="1" lang="en-US" sz="2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"/>
          <p:cNvSpPr/>
          <p:nvPr/>
        </p:nvSpPr>
        <p:spPr>
          <a:xfrm>
            <a:off x="6324480" y="63244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CB2A1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0T17:06:52Z</dcterms:created>
  <dc:creator>ADG</dc:creator>
  <dc:description/>
  <dc:language>en-US</dc:language>
  <cp:lastModifiedBy>Administrator</cp:lastModifiedBy>
  <cp:lastPrinted>1998-11-03T23:43:48Z</cp:lastPrinted>
  <dcterms:modified xsi:type="dcterms:W3CDTF">2005-08-15T18:30:14Z</dcterms:modified>
  <cp:revision>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5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